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0F6-74EB-41A0-8396-AC10B878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EF1-E7C4-4EBA-81CA-AC6A69E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036-77F5-4698-956A-0F3797C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9E1-C80C-43EA-BE33-ACA11B81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BEFD-3C87-4B14-861D-14202DA0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0C25E-F39A-4580-8F09-0677AD4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B5312-5C9E-45FD-A8A8-1286571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EBD0C-8E69-4DD0-AFA2-AF916166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54A2-90C2-45D4-B7ED-94B3946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44D7C-9619-42F6-95C1-B2EE911D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0E5F6-7C39-47DB-91B6-B7D13A4C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D67-7BFF-492D-82C2-229237A7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1F1B3-39FE-48EC-A0B2-42BB7D4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6509B-CBB4-4914-A812-F7C9F6F1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C422A-6E3A-4441-A6D1-2544EEDC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6EC78-554C-43AA-996E-B06A7B62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09627-39B8-4E7B-B53E-D661AC96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BFF-385F-409D-82B6-CB4E42FE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4C1-AF26-4F04-9918-EF6CF8DB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065-3ACC-466F-9146-C41988D4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CDC-A84B-4AAB-AACE-4C1B7AB1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DA7-CA88-4F17-A692-12FF6984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364-9F9D-4759-B96E-F668DC9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EB9-703C-4E11-84FD-1AAB636E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10D1-9427-4E02-B747-554F8E318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B71-7449-4D13-8160-831A85B294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Did Goldilocks do the wrong thing?</a:t>
            </a:r>
            <a:br>
              <a:rPr sz="7200"/>
            </a:b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16000" y="429264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ear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opic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The topic: Goldilocks WAS a juvenile delinqu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Conduct your research, and determine the yes and no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Present your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Now change s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Drop the yes and no, and determine your group’s final response to the topi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eam analysi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instorm on your team’s efforts with a 2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1. What did we do w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. 2. What could we have done different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, revisit your criteria, and critically evaluate your work by responding to each of thos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gratulate each other on your work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Guiding Question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es ‘delinquent’ really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ould you have the potential to be a delinquent? (We hope not, but for the moment, we’re just exploring the options!!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 you have in common with Goldilock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ategies we’ll use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X-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nn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inu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ademic controver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eam Self-Regulation?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t’s assume that your team is going to be sensation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could be the criteria for an analysis of your efforts 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gree of initiative / crea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bstantive listen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vel of engagem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ome background clarification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. What IS a ‘delinquent’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teams of 4, use an X-chart to clarify a ‘delinquent’. Write it out clearl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 Shopping to collect some ideas from other group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n return and refine your own X-char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uld YOU be a delinquen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 up a SWOT analysis of your characte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re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each, consider how the points you write could contribute to you becoming a delinqu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about YOU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rm into pairs (wherever possib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raw up a 3-circle Venn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e your 2 names, and write Goldilocks’ name beside the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irc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opic is ‘Delinquency factors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ce at least one entry in each of the sp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447560"/>
            <a:ext cx="813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 a continuum, stand on a line that goes from Yes to No. Was Goldilocks a delinque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t ready to justify your 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nd someone who disagrees with you, and convince them with your arg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cademic Controvers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clarify our thinking, we’re going to take part in a type of deb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’s called Academic Controver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tep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Form into teams of 4, and appoint two ‘yes’ and two ‘no’ represent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7-05-01T10:24:21Z</dcterms:modified>
  <cp:revision>9</cp:revision>
  <dc:subject/>
  <dc:title>PowerPoint Presentation</dc:title>
</cp:coreProperties>
</file>